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64D-8EFA-4AB2-8915-B4880342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89B-F059-4FB5-AF70-1978B837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847-51BA-49F0-975E-62B28C88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A6E-34F7-4685-BA14-886DFC3E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270-5FEB-40EF-9977-F35FFDA3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E7C-CDCB-43AE-BB00-AF951AF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868-A6D4-480D-9ECB-E1607314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5E5-1FD0-40CF-B337-D616D24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016-3670-40A9-9751-12BE4B71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1CA-4653-4C73-BC6C-8A8BD5D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D64-D31B-4C50-88C8-11ED6E5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85D-AF8F-418D-95C8-E2CBDFE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1B15-3938-4832-9C1F-A4E9C1C7DD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2E Scatterplo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very important to fully understand this exercise because scatterplots feature heavily in Chapters 3 and 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catterplots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give a visual display of the relationship between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2 numerical variable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- One variable is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independent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one is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dependent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The independent variable is graphed on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horizontal axi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describing the relationship between two variables displayed on a scatterplot, we need to comment on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direction- whether positive (sloping up to the right) or negative (sloping up to the left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form – whether it linear or non-linear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trength – whether the correlation is strong, moderate or weak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Possible outlie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rrelation? What’s that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correlation is the relationship between two thing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Picture 3" descr="Correlation.jpg"/>
          <p:cNvPicPr/>
          <p:nvPr/>
        </p:nvPicPr>
        <p:blipFill>
          <a:blip r:embed="rId1"/>
          <a:stretch/>
        </p:blipFill>
        <p:spPr>
          <a:xfrm>
            <a:off x="3071880" y="2143080"/>
            <a:ext cx="400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Scatterplot gallery.jpg"/>
          <p:cNvPicPr/>
          <p:nvPr/>
        </p:nvPicPr>
        <p:blipFill>
          <a:blip r:embed="rId1"/>
          <a:stretch/>
        </p:blipFill>
        <p:spPr>
          <a:xfrm>
            <a:off x="1357200" y="357120"/>
            <a:ext cx="621504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catterplots on the CA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Open Lists &amp; Spreadsheet and enter the data in two columns. Add titles to each of the colum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Open Data &amp; Statistics and enter the independent variable on the x-axis and the dependent variable on the y-ax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: Ex 2E, Q.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E, Q. 1, 2, 5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5:39:16Z</dcterms:created>
  <dc:creator>08843474</dc:creator>
  <dc:description/>
  <dc:language>en-US</dc:language>
  <cp:lastModifiedBy>08843474</cp:lastModifiedBy>
  <dcterms:modified xsi:type="dcterms:W3CDTF">2011-02-12T06:15:30Z</dcterms:modified>
  <cp:revision>5</cp:revision>
  <dc:subject/>
  <dc:title>Bivariate Data</dc:title>
</cp:coreProperties>
</file>